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01E-969B-4296-8883-3500928F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5A4-2D1A-44F5-894F-F0A42E9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D9C-A82A-495A-AB9D-4178CB0A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02C-36A5-42AA-95D7-647A6068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DE5-56A2-4FDD-BC76-7DF3A675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3E3-1579-4617-A33A-2E8D610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C8C-50A0-4EE3-AF48-95622702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F8A-274D-47D5-862F-FB0E4909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7A3-F009-46D4-B6DE-A9DEF29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C26-2CD2-4E6D-BE7B-196DD3E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8AE-62A1-48C2-9740-77578BD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9BC-1BE5-4BC3-AED7-D23E3E0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A8B1-026C-4F49-A238-F6E4A56A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3657600"/>
          <a:ext cx="449604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657600"/>
                    <a:ext cx="449604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876920" y="304920"/>
            <a:ext cx="3429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chart is a combination of normal stacked column char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values in the data table have been stagge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809880"/>
            <a:ext cx="403848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ow add another dummy set of data for axis lab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ove the new data to the secondary axis. Set the secondary value axis to a maximum of 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nable the secondary x axis, use the chart options dialog setting it to date typ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hange the max scale value to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nable data la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uppress tickmark labels on the secondary x 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et the secondary y axis to have value in reverse then suppress tickmarks and lab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elete extra legend e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52280"/>
          <a:ext cx="4496040" cy="23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52280"/>
                    <a:ext cx="4496040" cy="23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506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066680"/>
          <a:ext cx="441972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4419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0880" y="380880"/>
            <a:ext cx="7543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chart is a normal clustered column chart with East and South data on the secondary ax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values in the data table have to be altered in order to make the back columns, West &amp; North, taller than the original data would have mage th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14800" y="3429000"/>
            <a:ext cx="4705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9:51:38Z</dcterms:created>
  <dc:creator>Andy Pope</dc:creator>
  <dc:description/>
  <dc:language>en-US</dc:language>
  <cp:lastModifiedBy>Andy Pope</cp:lastModifiedBy>
  <dcterms:modified xsi:type="dcterms:W3CDTF">2004-06-18T20:19:33Z</dcterms:modified>
  <cp:revision>2</cp:revision>
  <dc:subject/>
  <dc:title>PowerPoint Presentation</dc:title>
</cp:coreProperties>
</file>