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66B-4796-4496-9CCF-900813B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FD9-8563-48C0-B911-4663B76A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CE0-5CBB-4DA4-9870-25406833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2BE-C855-4C9D-9D22-A2D6473A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C1C-8FC5-4376-A11B-8628716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FBF-6F77-4E04-9BD1-BACC441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956-4276-428E-920E-D3BFD3E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C83-4F31-4CC5-9D70-980D5703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CFD-5257-4D8A-906B-055821D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FA5-1F2C-435A-8378-78C1C25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549-F64C-4FCF-B8D6-CA61205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5E5-DF88-4D66-868F-C692C3D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834-69F2-4A62-A134-E0D2DEEF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333360"/>
          <a:ext cx="362412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362412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419640" y="2637000"/>
          <a:ext cx="5329080" cy="35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637000"/>
                    <a:ext cx="5329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684360" y="5950080"/>
            <a:ext cx="431640" cy="142920"/>
            <a:chOff x="684360" y="5950080"/>
            <a:chExt cx="431640" cy="142920"/>
          </a:xfrm>
        </p:grpSpPr>
        <p:sp>
          <p:nvSpPr>
            <p:cNvPr id="46" name=""/>
            <p:cNvSpPr/>
            <p:nvPr/>
          </p:nvSpPr>
          <p:spPr>
            <a:xfrm>
              <a:off x="684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4360" y="609300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762200" y="5950080"/>
            <a:ext cx="147600" cy="285480"/>
            <a:chOff x="1762200" y="5950080"/>
            <a:chExt cx="147600" cy="285480"/>
          </a:xfrm>
        </p:grpSpPr>
        <p:sp>
          <p:nvSpPr>
            <p:cNvPr id="49" name=""/>
            <p:cNvSpPr/>
            <p:nvPr/>
          </p:nvSpPr>
          <p:spPr>
            <a:xfrm>
              <a:off x="1763640" y="602136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62200" y="5950080"/>
              <a:ext cx="147600" cy="285480"/>
              <a:chOff x="1762200" y="5950080"/>
              <a:chExt cx="147600" cy="285480"/>
            </a:xfrm>
          </p:grpSpPr>
          <p:sp>
            <p:nvSpPr>
              <p:cNvPr id="51" name=""/>
              <p:cNvSpPr/>
              <p:nvPr/>
            </p:nvSpPr>
            <p:spPr>
              <a:xfrm>
                <a:off x="1762200" y="5950080"/>
                <a:ext cx="14580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763640" y="6093000"/>
                <a:ext cx="14616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4356000" y="54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 MS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1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 MS Graph with broke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09:41:49Z</dcterms:created>
  <dc:creator>Andy Pope</dc:creator>
  <dc:description/>
  <dc:language>en-US</dc:language>
  <cp:lastModifiedBy>Andy Pope</cp:lastModifiedBy>
  <dcterms:modified xsi:type="dcterms:W3CDTF">2004-12-09T09:55:13Z</dcterms:modified>
  <cp:revision>4</cp:revision>
  <dc:subject/>
  <dc:title>Slide 1</dc:title>
</cp:coreProperties>
</file>