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CC2F-9F03-4AA6-B6A5-EC8094F2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F269-7E2F-40EC-A8A8-C71519E3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0810-E189-4C0F-831F-0BDEF507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3607-0863-482B-AFE9-B98D53B04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A88F-E7A3-483A-9F8D-478B5107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51E9-DD20-47EA-B04A-8C2832BB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BA01-CAB9-4F6A-82C8-C82C0B2B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6227-A824-4BDB-B89D-18BB11B1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7041-813B-4A26-968D-A580BFE7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899C-833B-4E62-8D59-0C699D2A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0C21-F52E-4F76-A9AC-F662F9B7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4E28-10CC-4645-8F26-A45CB578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845D-F4F4-4766-BA76-B3A34A989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5360"/>
          <a:ext cx="4272120" cy="284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4272120" cy="28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10:33:53Z</dcterms:created>
  <dc:creator>Andy Pope</dc:creator>
  <dc:description/>
  <dc:language>en-US</dc:language>
  <cp:lastModifiedBy>Andy Pope</cp:lastModifiedBy>
  <dcterms:modified xsi:type="dcterms:W3CDTF">2005-04-22T15:17:37Z</dcterms:modified>
  <cp:revision>3</cp:revision>
  <dc:subject/>
  <dc:title>Slide 1</dc:title>
</cp:coreProperties>
</file>