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25C-F401-483B-B5DD-724ABA91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5F4-0736-4789-8B9D-5B2622E9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AB0-AF6E-4EB5-B597-D7A729E5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31E-52A1-4ADA-A3AB-DF68C7EB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F64-3006-46E8-8A6B-A01740C3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FDB-699E-428E-B504-FA346F0C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034-A4C2-488E-8E38-D245FE5A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259-44F8-4A6C-87E4-10317F2E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E42-4938-4925-AB01-BB40A59F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3F6-4E1E-4D53-9509-A9622DBA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B94E-56B2-418C-AA57-FCB94918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6B94-C701-4A5C-9EC9-C7647CBB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ABF9-999C-474C-A908-1774C402F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5360"/>
          <a:ext cx="4272120" cy="28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4272120" cy="28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10:33:53Z</dcterms:created>
  <dc:creator>Andy Pope</dc:creator>
  <dc:description/>
  <dc:language>en-US</dc:language>
  <cp:lastModifiedBy>Andy Pope</cp:lastModifiedBy>
  <dcterms:modified xsi:type="dcterms:W3CDTF">2005-04-22T15:17:37Z</dcterms:modified>
  <cp:revision>3</cp:revision>
  <dc:subject/>
  <dc:title>Slide 1</dc:title>
</cp:coreProperties>
</file>