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6F0-FE1B-4812-91CE-9C0FB803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2BF-65BB-4713-AB2B-4976AD21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DF6-2BDB-4E3B-9470-08EA945D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40A-78F9-4B07-A3AF-E16094E9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49F-38D2-4C31-8C50-D8766028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332-0CC4-466B-BF06-71431CD1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315-BCAF-454F-B352-74DEE4D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3FD1-13A3-41F2-A858-502F2FCC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AC3-E513-4F91-961A-1040F7F6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9D45-0F18-4E6E-8D38-5A915B4E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D60-A747-4FA3-86EA-58F1D4B3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401-9750-4C03-95FE-198997D4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6C84-D51A-467C-87C4-6BEA68F47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56000" y="2637000"/>
          <a:ext cx="3809880" cy="201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80988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95280" y="476280"/>
          <a:ext cx="374184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476280"/>
                    <a:ext cx="3741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76720" y="4581360"/>
          <a:ext cx="374184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581360"/>
                    <a:ext cx="374184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42:46Z</dcterms:created>
  <dc:creator>Andy Pope</dc:creator>
  <dc:description/>
  <dc:language>en-US</dc:language>
  <cp:lastModifiedBy>Andy Pope</cp:lastModifiedBy>
  <dcterms:modified xsi:type="dcterms:W3CDTF">2005-10-22T13:03:10Z</dcterms:modified>
  <cp:revision>2</cp:revision>
  <dc:subject/>
  <dc:title>PowerPoint Presentation</dc:title>
</cp:coreProperties>
</file>