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A230-FC52-4FAE-A79E-F2768C84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9BC-3395-44D9-9BCF-CE755538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596-364C-459C-88F2-B96C307B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10D2-F195-4C92-AEB1-72547B44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CB6-7F6A-4486-8C91-2C8B2E43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D13-61DC-474A-9D13-6A853102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D4F-6F53-4C2C-B354-D7343D17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AF4C-7729-4EA2-A15C-5352DEE7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F71-2F24-40C4-84FA-B6FB0A13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12B-049D-425D-A689-5A794DB9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AAB-698D-4401-BD2C-C51ED3B7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FCF-B482-4C5F-A893-09050CCB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A8E4-1895-477E-B5C3-7D040046D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56000" y="2637000"/>
          <a:ext cx="3809880" cy="20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80988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95280" y="476280"/>
          <a:ext cx="37418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76280"/>
                    <a:ext cx="3741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076720" y="4581360"/>
          <a:ext cx="3741840" cy="198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4581360"/>
                    <a:ext cx="3741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2:42:46Z</dcterms:created>
  <dc:creator>Andy Pope</dc:creator>
  <dc:description/>
  <dc:language>en-US</dc:language>
  <cp:lastModifiedBy>Andy Pope</cp:lastModifiedBy>
  <dcterms:modified xsi:type="dcterms:W3CDTF">2005-10-22T13:03:10Z</dcterms:modified>
  <cp:revision>2</cp:revision>
  <dc:subject/>
  <dc:title>PowerPoint Presentation</dc:title>
</cp:coreProperties>
</file>