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EC0-7FFC-4D3E-83B8-B3B6789A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725-A815-41D6-AB01-36843A2D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429-18B4-4193-9BC9-87059D07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5CC2-EE15-402E-BD53-40D662C4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769-37EC-4120-9323-0B1C7718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817-C97B-44E6-AD0C-A62866A9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1E8-B73B-48F6-87DA-A777D04D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0B5-7F8D-4627-99C1-0C7D1C82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72A-6AB3-4C1A-9992-B844FC92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23D-3C3B-4202-807D-DCA0DF15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EFC-22CD-4CF1-9441-24C659F8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D64-CAA3-4553-AAE1-307794CA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B390-C864-4FF9-8065-43549E5B5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8000" y="1052640"/>
          <a:ext cx="498492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052640"/>
                    <a:ext cx="4984920" cy="4060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42920" y="6093000"/>
            <a:ext cx="144360" cy="144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8:05:51Z</dcterms:created>
  <dc:creator>Andy Pope</dc:creator>
  <dc:description/>
  <dc:language>en-US</dc:language>
  <cp:lastModifiedBy>Andy Pope</cp:lastModifiedBy>
  <dcterms:modified xsi:type="dcterms:W3CDTF">2006-08-08T08:22:19Z</dcterms:modified>
  <cp:revision>5</cp:revision>
  <dc:subject/>
  <dc:title>Slide 1</dc:title>
</cp:coreProperties>
</file>