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416-90AD-4A20-BAE3-82C57DFF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4BE-7F8D-4DF5-B021-76C7AE8B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AFC-5EF2-4E96-87C4-E7F2E43B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261-D723-4CDA-A6F7-A5821B1E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937-9C40-499E-B178-3ACAFE17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6DA-AA8D-4141-8ACF-4F1FFB10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AC9-AA4A-4655-A565-590BDCD0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FE3-F927-45F5-A949-F5B0A28A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C49-8E70-4281-BC9C-C406CE35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4DE-1FC1-43C1-AAB7-E5CC1640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68D-1F1F-42AF-B334-21A74455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13D-EF43-4114-A95A-D7C4DB2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E79F-9C52-443D-B601-C55641F88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260280"/>
          <a:ext cx="64818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6481800" cy="432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0920" y="260280"/>
          <a:ext cx="64818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6481800" cy="432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1:07:46Z</dcterms:created>
  <dc:creator>Andy Pope</dc:creator>
  <dc:description/>
  <dc:language>en-US</dc:language>
  <cp:lastModifiedBy>Andy Pope</cp:lastModifiedBy>
  <dcterms:modified xsi:type="dcterms:W3CDTF">2006-12-05T11:24:17Z</dcterms:modified>
  <cp:revision>3</cp:revision>
  <dc:subject/>
  <dc:title>Slide 1</dc:title>
</cp:coreProperties>
</file>