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83E-8BB2-4D9F-B3CD-7563B331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154-FDB9-4340-85B9-08D75E7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255-F6F4-46D8-BBDF-5F379FD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3B5-FD73-41C9-910C-2039295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309-69E3-4DCC-A28E-2773B6A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641-E4B5-4B3B-96C4-63DF25C3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A99-98CE-4625-80A7-FD5D807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C24-9F3A-445D-B808-29AE014F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C3E-37D6-441A-B213-AF0D6A0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A32-77AE-4DEA-A1D7-637DB1C9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F0B-5AB9-4137-A352-61394FB4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450-667B-4161-8260-670594B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87B8-B16D-4922-AC49-5FCDB78A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260280"/>
          <a:ext cx="64818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6481800" cy="432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60280"/>
          <a:ext cx="64818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6481800" cy="432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1:07:46Z</dcterms:created>
  <dc:creator>Andy Pope</dc:creator>
  <dc:description/>
  <dc:language>en-US</dc:language>
  <cp:lastModifiedBy>Andy Pope</cp:lastModifiedBy>
  <dcterms:modified xsi:type="dcterms:W3CDTF">2006-12-05T11:24:17Z</dcterms:modified>
  <cp:revision>3</cp:revision>
  <dc:subject/>
  <dc:title>Slide 1</dc:title>
</cp:coreProperties>
</file>