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A11-03BD-4DF5-BA8E-82447CEA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8F7-003C-4B58-A042-6EF963E9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A92-6FE4-40A7-BAAD-CEB7EC8D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635-4C86-4685-850B-9155DD4A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184-C605-422B-86CA-5DD41C73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512-B112-45C7-9061-CC18D84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07D-74D6-4626-BDFA-9B503A8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65E-53B3-471F-B33A-3B3DFBC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B43-F904-4AA3-AC49-C3AD33F6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1C0-32E2-4D20-8642-C8A0235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814-1F4A-4207-9174-B5378895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463-B646-4A0B-B281-4CA35C5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58BA-B246-46FC-9F91-39F49F854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33520"/>
          <a:ext cx="495324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495324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886200" y="3276720"/>
          <a:ext cx="4952880" cy="33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276720"/>
                    <a:ext cx="49528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865120" y="4572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 Scatter lab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09480" y="533520"/>
          <a:ext cx="495324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495324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886200" y="3276720"/>
          <a:ext cx="4952880" cy="33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276720"/>
                    <a:ext cx="495288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865120" y="457200"/>
            <a:ext cx="26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 Scatter lab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3:59:32Z</dcterms:created>
  <dc:creator>Andy Pope</dc:creator>
  <dc:description/>
  <dc:language>en-US</dc:language>
  <cp:lastModifiedBy>Andy Pope</cp:lastModifiedBy>
  <dcterms:modified xsi:type="dcterms:W3CDTF">2003-07-09T20:25:18Z</dcterms:modified>
  <cp:revision>9</cp:revision>
  <dc:subject/>
  <dc:title>Label XY Scatter in MS Graph</dc:title>
</cp:coreProperties>
</file>